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918-4624-4951-9F8C-0FC6AD56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30F-0887-43BA-A7FD-A207B87D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959-FA20-4FD4-A25E-1A9F0CB9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247-51DA-4A10-BA0F-D61A490D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9E2-D5B2-4544-A7D4-377EDBE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CBA-E8F5-4B51-8A86-DC022B8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22B-5B61-4B6B-AECF-186A451F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B0D-3D5E-4647-8ED6-50C86124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5AB-5DA0-4660-A344-B2B218DB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2E0-F343-43CF-A043-84F26ABB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CF9-9B2E-463F-8F06-A97C5334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C9A-AE1E-4133-9B6A-274C84A4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BE5-BF0A-4F79-8CE4-1A37B86F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 &amp; Eu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&amp;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NA poly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 (only one type in pro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mo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 (none in pro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transcriptional modifications in eukaryotes (none in pro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&amp; translation can happ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es (not in eukary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7:47Z</dcterms:created>
  <dc:creator>rubina khan</dc:creator>
  <dc:description/>
  <dc:language>en-US</dc:language>
  <cp:lastModifiedBy>rubina khan</cp:lastModifiedBy>
  <dcterms:modified xsi:type="dcterms:W3CDTF">2012-04-25T16:46:25Z</dcterms:modified>
  <cp:revision>5</cp:revision>
  <dc:subject/>
  <dc:title>Prokaryotes &amp; Eukaryotes</dc:title>
</cp:coreProperties>
</file>